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65938" cy="9996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65200" cy="999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9440" y="-36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4560" y="750600"/>
            <a:ext cx="4994280" cy="374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5480" y="4747680"/>
            <a:ext cx="5032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9608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9440" y="949608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23B0-8B62-47FD-9E1D-288246EE8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9440" y="949644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5C25-2C54-4CC1-AF62-D95F701E4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34920" y="750960"/>
            <a:ext cx="4994280" cy="37465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5480" y="4747680"/>
            <a:ext cx="5032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lides for WIS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34920" y="750960"/>
            <a:ext cx="4994280" cy="37465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5480" y="4747680"/>
            <a:ext cx="5032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llustration of things that are ZK: The general formulation (more explicitly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9440" y="949644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9C38-1D61-4CDD-AB08-0D05F431E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34920" y="750960"/>
            <a:ext cx="4994280" cy="37465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5480" y="4747680"/>
            <a:ext cx="5032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O ROOM ON THE SLIDE! The *red* G and M are Shafi and Silvio, res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9440" y="949644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AE55-D9A0-47F4-A326-F8A7A58AD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9440" y="949644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E59B-9831-403E-96C3-96C46131E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3480" y="750960"/>
            <a:ext cx="4997520" cy="37479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6880" y="4747680"/>
            <a:ext cx="54896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hDs at UCB in early 1980s, shortly afterwards and since then at MIT (+ Shafi also at WIS),  Turing Award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9440" y="949644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0733-50C9-42AC-8151-0EFF5CFEF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3480" y="750960"/>
            <a:ext cx="4997520" cy="37479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6880" y="4747680"/>
            <a:ext cx="54896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se are from my going away party at 19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4920" y="750960"/>
            <a:ext cx="4994280" cy="37465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5480" y="4747680"/>
            <a:ext cx="5032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[Life of Brain (1979): What have the Romans ever done for us?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eriously: (1) answers the “what”, (2) is to answer a “how”, and (3) elaborates (a three step-proce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9440" y="949644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3A70-4C58-48C4-A55E-B7C35B533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34920" y="750960"/>
            <a:ext cx="4994280" cy="37465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5480" y="4747680"/>
            <a:ext cx="5032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One example: Secure Encryption. Re Step 2 (“def”) se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9440" y="949644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01B5-BB5D-41D2-AA87-DA45CED18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4920" y="750960"/>
            <a:ext cx="4994280" cy="37465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5480" y="4747680"/>
            <a:ext cx="5032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One example: Secure Encryption – its definition: Its essence = ideal model (a high toll indeed). Next: Illust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9440" y="949644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0204-7C5E-45E4-A881-EA9E1718B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34920" y="750960"/>
            <a:ext cx="4994280" cy="374652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5480" y="4747680"/>
            <a:ext cx="5032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(1) The def of semantic security, and its illustration (2): Indeed, this disguise is insecu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9440" y="949644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997F-38D5-45B3-8248-3A70144BE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34920" y="750960"/>
            <a:ext cx="4994280" cy="374652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5480" y="4747680"/>
            <a:ext cx="5032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(1) Computational-indistinguishability as security, and its illustration (2): Indeed, this disguise is insecu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9440" y="949644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903C-5674-4E08-A994-AF23D699A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34920" y="750960"/>
            <a:ext cx="4994280" cy="37465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5480" y="4747680"/>
            <a:ext cx="5032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nother example: ZK. Re (2) – See next slide. But note that also “interactive proofs” had to be distilled and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9440" y="949644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E55B-C589-4EC8-BF81-E21F05542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34920" y="750960"/>
            <a:ext cx="4994280" cy="374652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5480" y="4747680"/>
            <a:ext cx="5032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nother example: ZK. Note the conservative definitional approach 9also present in secure encryption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9440" y="949644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03A4-3341-4734-B472-8C2BC4578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34920" y="750960"/>
            <a:ext cx="4994280" cy="374652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5480" y="4747680"/>
            <a:ext cx="5032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llustration of things that are ZK: The general formulation (not stated explicitl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9440" y="949644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960C-DE04-4D28-AF95-943AEA0C8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077E-2BD9-4619-87A6-0A3F37934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2CAF-C178-43E3-9317-8C5D2358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9CA2-7D74-49DC-84C4-1BE559C9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C0BA-896F-4A5A-B22C-CFD1FA5AA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EAE2-1DDF-4B5F-AC19-5AEA02C7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A566-491A-4FEE-91AA-08AEB180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AE89-2821-40EC-B319-C745F7EC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99F0-B95D-4A5F-9D58-30703453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3BA7-6F9A-4914-8617-E5624426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0D51-6514-4F4E-89AE-5D168BB3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1873-F037-4235-B5BE-D53FBA1C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F360-663A-4885-81D4-AC6ED2EA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34FD-E049-48E5-BD32-3D34E2553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280" y="380520"/>
            <a:ext cx="82551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Comic Sans MS"/>
              </a:rPr>
              <a:t>On the work of </a:t>
            </a:r>
            <a:br>
              <a:rPr sz="3600"/>
            </a:br>
            <a:r>
              <a:rPr b="1" lang="en-US" sz="3600" spc="-1" strike="noStrike">
                <a:solidFill>
                  <a:srgbClr val="6600cc"/>
                </a:solidFill>
                <a:latin typeface="Comic Sans MS"/>
              </a:rPr>
              <a:t>Shafi Goldwasser and Silvio Micali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3440" y="5567400"/>
            <a:ext cx="4228920" cy="6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By Oded Goldre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5791320" y="5896080"/>
            <a:ext cx="2895480" cy="3988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SF @ WIS, Dec 2013</a:t>
            </a:r>
            <a:endParaRPr b="1" lang="en-US" sz="2000" spc="-1" strike="noStrike">
              <a:solidFill>
                <a:srgbClr val="000000"/>
              </a:solidFill>
              <a:latin typeface="Freestyle Script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4191120" cy="31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Zero-Knowledge (w. interaction)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3160" y="5333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a protocol for two Italians to pass through a door (generates a sequence of easily predictable messag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533520" y="16002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An interaction you can simulate by yourself gives you no knowledge. </a:t>
            </a:r>
            <a:endParaRPr b="1" lang="en-US" sz="2000" spc="-1" strike="noStrike">
              <a:solidFill>
                <a:srgbClr val="000000"/>
              </a:solidFill>
              <a:latin typeface="Freestyle Script"/>
            </a:endParaRPr>
          </a:p>
        </p:txBody>
      </p:sp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3137040" y="2308320"/>
            <a:ext cx="286992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What have Shafi &amp; Silvio done for us?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68280" y="114300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olutionized Cryptographic Research and effecting all TCS along the way by introducing conceptual frameworks coupled with feasibility results.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Content Placeholder 2"/>
          <p:cNvSpPr/>
          <p:nvPr/>
        </p:nvSpPr>
        <p:spPr>
          <a:xfrm>
            <a:off x="304920" y="25909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s and constructions of secure encryption 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82].</a:t>
            </a:r>
            <a:endParaRPr b="1" lang="en-US" sz="2400" spc="-1" strike="noStrike">
              <a:solidFill>
                <a:srgbClr val="000000"/>
              </a:solidFill>
              <a:latin typeface="Freestyle Script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s and constructions of interactive proof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zero-knowledge interactive proofs 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’85, 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’86].</a:t>
            </a:r>
            <a:endParaRPr b="1" lang="en-US" sz="2400" spc="-1" strike="noStrike">
              <a:solidFill>
                <a:srgbClr val="000000"/>
              </a:solidFill>
              <a:latin typeface="Freestyle Script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s and constructions of pseudorandom generator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functions [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82, 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84].</a:t>
            </a:r>
            <a:endParaRPr b="1" lang="en-US" sz="2400" spc="-1" strike="noStrike">
              <a:solidFill>
                <a:srgbClr val="000000"/>
              </a:solidFill>
              <a:latin typeface="Freestyle Script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Secure Multi-Party Computation [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’87, 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’88].</a:t>
            </a:r>
            <a:endParaRPr b="1" lang="en-US" sz="2400" spc="-1" strike="noStrike">
              <a:solidFill>
                <a:srgbClr val="000000"/>
              </a:solidFill>
              <a:latin typeface="Freestyle Script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 and construction of signature schemes 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’84].</a:t>
            </a:r>
            <a:endParaRPr b="1" lang="en-US" sz="2400" spc="-1" strike="noStrike">
              <a:solidFill>
                <a:srgbClr val="000000"/>
              </a:solidFill>
              <a:latin typeface="Freestyle Script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ZK [B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88], MIP [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W’88], PCP-Approximation [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S], PT [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’96], 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and much more!</a:t>
            </a:r>
            <a:br>
              <a:rPr sz="2400"/>
            </a:b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09680" y="533520"/>
            <a:ext cx="4114800" cy="13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comic"/>
                <a:ea typeface="SimSun"/>
              </a:rPr>
              <a:t>End</a:t>
            </a:r>
            <a:endParaRPr b="0" lang="en-US" sz="96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320" y="2057040"/>
            <a:ext cx="8928000" cy="11430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lides of this talk are available at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ttp://www.wisdom.weizmann.ac.il/~oded/T/ssf-wis.p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6470640" y="3581280"/>
            <a:ext cx="2209680" cy="2667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482760" y="3543480"/>
            <a:ext cx="2108160" cy="269712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2895480" y="3768840"/>
            <a:ext cx="3276720" cy="24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ltra Brief BIO:</a:t>
            </a:r>
            <a:endParaRPr b="1" lang="en-US" sz="2400" spc="-1" strike="noStrike">
              <a:solidFill>
                <a:srgbClr val="000000"/>
              </a:solidFill>
              <a:latin typeface="Freestyle Script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D at UCB (supervised by M. Blum) in early 1980s.</a:t>
            </a:r>
            <a:endParaRPr b="1" lang="en-US" sz="2000" spc="-1" strike="noStrike">
              <a:solidFill>
                <a:srgbClr val="000000"/>
              </a:solidFill>
              <a:latin typeface="Freestyle Script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MIT since 1983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Shafi at WIS since 1993.)</a:t>
            </a:r>
            <a:endParaRPr b="1" lang="en-US" sz="2000" spc="-1" strike="noStrike">
              <a:solidFill>
                <a:srgbClr val="000000"/>
              </a:solidFill>
              <a:latin typeface="Freestyle Script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uring Award 2012.</a:t>
            </a:r>
            <a:endParaRPr b="1" lang="en-US" sz="20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2400" y="533520"/>
            <a:ext cx="78231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comic"/>
                <a:ea typeface="SimSun"/>
              </a:rPr>
              <a:t>Additional photos</a:t>
            </a:r>
            <a:endParaRPr b="0" lang="en-US" sz="6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320" y="5486040"/>
            <a:ext cx="8928000" cy="11430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lides of this talk are available at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ttp://www.wisdom.weizmann.ac.il/~oded/T/ssf-wis.p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762120" y="1954080"/>
            <a:ext cx="3657600" cy="300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5334120" y="1954080"/>
            <a:ext cx="299232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What have Shafi &amp; Silvio done for us?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051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volutionized Cryptographic Research and effecting all TCS along the way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825480" y="502920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ill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uitive security concerns</a:t>
            </a:r>
            <a:endParaRPr b="1" lang="en-US" sz="2400" spc="-1" strike="noStrike">
              <a:solidFill>
                <a:srgbClr val="000000"/>
              </a:solidFill>
              <a:latin typeface="Freestyle Script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ust defini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capture them</a:t>
            </a:r>
            <a:endParaRPr b="1" lang="en-US" sz="2400" spc="-1" strike="noStrike">
              <a:solidFill>
                <a:srgbClr val="000000"/>
              </a:solidFill>
              <a:latin typeface="Freestyle Script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nstrating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asi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satisfying these defini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55" name="Content Placeholder 2"/>
          <p:cNvSpPr/>
          <p:nvPr/>
        </p:nvSpPr>
        <p:spPr>
          <a:xfrm>
            <a:off x="787320" y="3429000"/>
            <a:ext cx="7213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conceptual framework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upled with feasibility results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The three-step process in action: </a:t>
            </a:r>
            <a:br>
              <a:rPr sz="4000"/>
            </a:b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The case of Encryption schemes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7" name="Content Placeholder 2"/>
          <p:cNvSpPr/>
          <p:nvPr/>
        </p:nvSpPr>
        <p:spPr>
          <a:xfrm>
            <a:off x="685800" y="3962520"/>
            <a:ext cx="8153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ing messages “without revealing anything” to an adversary that may be tapping the channel. </a:t>
            </a:r>
            <a:endParaRPr b="1" lang="en-US" sz="2400" spc="-1" strike="noStrike">
              <a:solidFill>
                <a:srgbClr val="000000"/>
              </a:solidFill>
              <a:latin typeface="Freestyle Script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ust definitions of secure encryption scheme. </a:t>
            </a:r>
            <a:endParaRPr b="1" lang="en-US" sz="2400" spc="-1" strike="noStrike">
              <a:solidFill>
                <a:srgbClr val="000000"/>
              </a:solidFill>
              <a:latin typeface="Freestyle Script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es that satisfy this security definition provided that factoring large integers is hard (e.g., inverting RSA is hard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440" y="1752480"/>
            <a:ext cx="792468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lling intuitive security conc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ing robust definitions that capture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nstrating the feasibility of satisfying these 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Times New Roman"/>
              </a:rPr>
              <a:t>The Definition of Secure Encryption Schemes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0" name="Content Placeholder 2"/>
          <p:cNvSpPr/>
          <p:nvPr/>
        </p:nvSpPr>
        <p:spPr>
          <a:xfrm>
            <a:off x="609480" y="2209680"/>
            <a:ext cx="807732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y, this is not a cryptography course. </a:t>
            </a:r>
            <a:endParaRPr b="1" lang="en-US" sz="2800" spc="-1" strike="noStrike">
              <a:solidFill>
                <a:srgbClr val="000000"/>
              </a:solidFill>
              <a:latin typeface="Freestyle Scrip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ce: Start from the ideal (and don’t be timid about it), and then make conceptually clear relaxations like replacing “anything one can do” by “anything one can (actually) do”. </a:t>
            </a:r>
            <a:endParaRPr b="1" lang="en-US" sz="2400" spc="-1" strike="noStrike">
              <a:solidFill>
                <a:srgbClr val="000000"/>
              </a:solidFill>
              <a:latin typeface="Freestyle Scrip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deal model is so intuitive and appealing that it offers nice illustrations and metaphors (see next slides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Semantic Security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95000" y="5678640"/>
            <a:ext cx="79246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ood disguise should not reveal the person’s he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609480" y="160020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A good encryption should hide all partial information. </a:t>
            </a:r>
            <a:endParaRPr b="1" lang="en-US" sz="2000" spc="-1" strike="noStrike">
              <a:solidFill>
                <a:srgbClr val="000000"/>
              </a:solidFill>
              <a:latin typeface="Freestyle Script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3454560" y="2514600"/>
            <a:ext cx="287172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Security as Indistinguishability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3160" y="52574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ood disguise should not allow the mother to identify her own chi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, distinguish him from other childre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533520" y="160020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A good encryption does not allow to distinguish the encryption of any pair of known messages. </a:t>
            </a:r>
            <a:endParaRPr b="1" lang="en-US" sz="2000" spc="-1" strike="noStrike">
              <a:solidFill>
                <a:srgbClr val="000000"/>
              </a:solidFill>
              <a:latin typeface="Freestyle Script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3505320" y="2514600"/>
            <a:ext cx="287172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The three-step process in action: </a:t>
            </a:r>
            <a:br>
              <a:rPr sz="4000"/>
            </a:b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The case of Zero-Knowledge Proofs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685800" y="3657600"/>
            <a:ext cx="8305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ing proper behavior by asking the actors to provide a proof that it has acted according to their secret, but without disclosing these secrets. </a:t>
            </a:r>
            <a:endParaRPr b="1" lang="en-US" sz="2400" spc="-1" strike="noStrike">
              <a:solidFill>
                <a:srgbClr val="000000"/>
              </a:solidFill>
              <a:latin typeface="Freestyle Script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s of interactive proofs and zero-knowledge. </a:t>
            </a:r>
            <a:endParaRPr b="1" lang="en-US" sz="2400" spc="-1" strike="noStrike">
              <a:solidFill>
                <a:srgbClr val="000000"/>
              </a:solidFill>
              <a:latin typeface="Freestyle Script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zero-knowledge interactive proof for an set believed not to be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and later zero-knowledge proofs for an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mt (again, assuming intractability of factoring integers, etc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440" y="1752480"/>
            <a:ext cx="792468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lling intuitive security conc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ing robust definitions that capture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nstrating the feasibility of satisfying these 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Times New Roman"/>
              </a:rPr>
              <a:t>The Definitions of Interactive Proofs</a:t>
            </a:r>
            <a:br>
              <a:rPr sz="3600"/>
            </a:br>
            <a:r>
              <a:rPr b="0" lang="en-US" sz="3600" spc="-1" strike="noStrike">
                <a:solidFill>
                  <a:srgbClr val="6600cc"/>
                </a:solidFill>
                <a:latin typeface="Times New Roman"/>
              </a:rPr>
              <a:t>and Zero-Knowledge Interactions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3" name="Content Placeholder 2"/>
          <p:cNvSpPr/>
          <p:nvPr/>
        </p:nvSpPr>
        <p:spPr>
          <a:xfrm>
            <a:off x="596880" y="1752480"/>
            <a:ext cx="8013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ain, this is not a cryptography course. </a:t>
            </a:r>
            <a:endParaRPr b="1" lang="en-US" sz="2800" spc="-1" strike="noStrike">
              <a:solidFill>
                <a:srgbClr val="000000"/>
              </a:solidFill>
              <a:latin typeface="Freestyle Script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ce: Start from the ideal (and don’t be timid about it), and then make conceptually clear relaxations like replacing “anything one can do” by “anything one can (actually) do”. </a:t>
            </a:r>
            <a:endParaRPr b="1" lang="en-US" sz="2400" spc="-1" strike="noStrike">
              <a:solidFill>
                <a:srgbClr val="000000"/>
              </a:solidFill>
              <a:latin typeface="Freestyle Script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deal model is so intuitive and appealing that it offers nice illustrations and metaphors (see next slides). </a:t>
            </a:r>
            <a:endParaRPr b="1" lang="en-US" sz="2400" spc="-1" strike="noStrike">
              <a:solidFill>
                <a:srgbClr val="000000"/>
              </a:solidFill>
              <a:latin typeface="Freestyle Script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interactive proofs = any two-party interactive protocol by which the verifier is convinced only of valid assertions.</a:t>
            </a:r>
            <a:endParaRPr b="1" lang="en-US" sz="2400" spc="-1" strike="noStrike">
              <a:solidFill>
                <a:srgbClr val="000000"/>
              </a:solidFill>
              <a:latin typeface="Freestyle Script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-knowledge: Defining what is zero-knowledge without defining what is knowledge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 to say I don’t know what is X, but for sure this is not X. Surprisingly, in the case of ZK, this approach suffic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Zero-Knowledge (w.o. interaction)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40" y="5608800"/>
            <a:ext cx="79246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whatever the dog can reach is not new to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533520" y="16002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Whatever you can do by yourself is not knowledge. </a:t>
            </a:r>
            <a:endParaRPr b="1" lang="en-US" sz="2000" spc="-1" strike="noStrike">
              <a:solidFill>
                <a:srgbClr val="000000"/>
              </a:solidFill>
              <a:latin typeface="Freestyle Script"/>
            </a:endParaRPr>
          </a:p>
        </p:txBody>
      </p:sp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3149640" y="2590920"/>
            <a:ext cx="287028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5T15:31:09Z</dcterms:created>
  <dc:creator>oded</dc:creator>
  <dc:description/>
  <dc:language>en-US</dc:language>
  <cp:lastModifiedBy>Oded</cp:lastModifiedBy>
  <cp:lastPrinted>2013-12-08T14:35:02Z</cp:lastPrinted>
  <dcterms:modified xsi:type="dcterms:W3CDTF">2013-12-09T08:34:57Z</dcterms:modified>
  <cp:revision>1061</cp:revision>
  <dc:subject/>
  <dc:title>Property Testing -- an introduction</dc:title>
</cp:coreProperties>
</file>